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5DBDD-DE97-4CCF-8ABE-9A4910B69D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9092D-5D73-401A-96AC-CCB6890AC6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248BD-4A24-41B4-B415-DF60C0A1F4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7A0D5-5538-4967-8A34-83598CD65E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3565-1C35-48D0-9857-958BED480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016F-E4F0-4235-A1A3-DE047100F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1F20-3CA2-4A5A-8550-FBCAD8215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2C2F-286F-4D37-822F-FB611E73B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7D0B-4697-4A03-954D-2EC631C6E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4C01-AD48-4E96-8822-39014F628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E250-0F27-4AFB-BFBC-76C62EFAE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9C4E-2B06-4C2E-8B59-CB6C0A113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2D2C-926E-4DB8-842E-B1708B40B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5FBE-208E-45D8-BF2E-245432A85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9099-EB82-4E1F-B1D2-84313E4AB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0A2A-5C10-4C39-97C1-B6CCE4B10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8227C-6171-4AD9-AB2E-A341B421F4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2.xml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Rita Kopczyns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>
            <a:hlinkClick r:id="rId1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Rita Kopczynsk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Rita Kopczynski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Rita Kopczynski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Rita Kopczynski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>
            <a:hlinkClick r:id="rId2" action="ppaction://hlinksldjump"/>
          </p:cNvPr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>
            <a:hlinkClick r:id="rId3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4197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828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Hola! Yo soy Rita. Yo vivo en New York. Tengo catorce años. Yo tengo dos hermanos y una hermana. Estoy feliz y graciosa. Amo mi familia y mis amigas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4"/>
          <a:stretch/>
        </p:blipFill>
        <p:spPr>
          <a:xfrm>
            <a:off x="133200" y="510228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5"/>
          <a:stretch/>
        </p:blipFill>
        <p:spPr>
          <a:xfrm>
            <a:off x="822240" y="5102280"/>
            <a:ext cx="536760" cy="78588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152280" y="556272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go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6"/>
          <a:stretch/>
        </p:blipFill>
        <p:spPr>
          <a:xfrm>
            <a:off x="133200" y="5943600"/>
            <a:ext cx="543240" cy="78120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7"/>
          <a:stretch/>
        </p:blipFill>
        <p:spPr>
          <a:xfrm>
            <a:off x="1432080" y="5181480"/>
            <a:ext cx="439560" cy="62892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447920" y="5486400"/>
            <a:ext cx="1828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e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Ri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Nada. Gracias. ¿Tú quieres venir a mi casa?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Noviembre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Gabb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Nada. Y tú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Noviem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Ri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está pasando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Noviembre 30, de 2012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rgo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Si.¿ Qué  haríamos nosotras mañana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Noviem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Ri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Nosotras debemos comer des pues de escuela y habla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Noviem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Margo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¿Dónde es Ella casa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Noviem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6"/>
          <p:cNvSpPr/>
          <p:nvPr/>
        </p:nvSpPr>
        <p:spPr>
          <a:xfrm>
            <a:off x="2819520" y="1905120"/>
            <a:ext cx="2895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os dias!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3" descr="Photo on 2011-11-29 at 13.54.jpg"/>
          <p:cNvPicPr/>
          <p:nvPr/>
        </p:nvPicPr>
        <p:blipFill>
          <a:blip r:embed="rId8"/>
          <a:stretch/>
        </p:blipFill>
        <p:spPr>
          <a:xfrm>
            <a:off x="914400" y="594360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98" name="TextBox 62"/>
          <p:cNvSpPr/>
          <p:nvPr/>
        </p:nvSpPr>
        <p:spPr>
          <a:xfrm>
            <a:off x="776160" y="556272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bb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Rita Kopczyns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Rita Kopczynsk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Rita Kopczynski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Rita Kopczynski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Rita Kopczynski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6"/>
          <p:cNvSpPr/>
          <p:nvPr/>
        </p:nvSpPr>
        <p:spPr>
          <a:xfrm>
            <a:off x="152280" y="44197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57"/>
          <p:cNvSpPr/>
          <p:nvPr/>
        </p:nvSpPr>
        <p:spPr>
          <a:xfrm>
            <a:off x="152280" y="3581280"/>
            <a:ext cx="1828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Hola! Yo soy Rita. Yo vivo en New York. Tengo catorce años. Yo tengo dos hermanos y una hermana. Estoy feliz y graciosa. Amo mi familia y  mis amigas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510228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5102280"/>
            <a:ext cx="536760" cy="785880"/>
          </a:xfrm>
          <a:prstGeom prst="rect">
            <a:avLst/>
          </a:prstGeom>
          <a:ln w="0">
            <a:noFill/>
          </a:ln>
        </p:spPr>
      </p:pic>
      <p:sp>
        <p:nvSpPr>
          <p:cNvPr id="136" name="TextBox 62"/>
          <p:cNvSpPr/>
          <p:nvPr/>
        </p:nvSpPr>
        <p:spPr>
          <a:xfrm>
            <a:off x="152280" y="556272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go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943600"/>
            <a:ext cx="543240" cy="781200"/>
          </a:xfrm>
          <a:prstGeom prst="rect">
            <a:avLst/>
          </a:prstGeom>
          <a:ln w="0">
            <a:noFill/>
          </a:ln>
        </p:spPr>
      </p:pic>
      <p:sp>
        <p:nvSpPr>
          <p:cNvPr id="138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5181480"/>
            <a:ext cx="439560" cy="628920"/>
          </a:xfrm>
          <a:prstGeom prst="rect">
            <a:avLst/>
          </a:prstGeom>
          <a:ln w="0">
            <a:noFill/>
          </a:ln>
        </p:spPr>
      </p:pic>
      <p:sp>
        <p:nvSpPr>
          <p:cNvPr id="140" name="TextBox 66"/>
          <p:cNvSpPr/>
          <p:nvPr/>
        </p:nvSpPr>
        <p:spPr>
          <a:xfrm flipH="1">
            <a:off x="1447920" y="5486400"/>
            <a:ext cx="1828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e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7"/>
          <p:cNvSpPr/>
          <p:nvPr/>
        </p:nvSpPr>
        <p:spPr>
          <a:xfrm>
            <a:off x="2743200" y="3809880"/>
            <a:ext cx="3429000" cy="3812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Nosotras tenemos la torta.                                              Ri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Noviembre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7"/>
          <p:cNvSpPr/>
          <p:nvPr/>
        </p:nvSpPr>
        <p:spPr>
          <a:xfrm>
            <a:off x="2819520" y="3124080"/>
            <a:ext cx="3657600" cy="3812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OK.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Ustedes viven en la cuidad, es mejor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Gabb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Noviem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Mi casa esta en 21 ST.                                                                              Ri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Noviembre 30, de 2012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Ustedes tienen las copas parra la fiesta.                                                              Margo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Noviem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llo estas infirma.                                                                                            Ri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Noviem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Tú eres Americana.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Noviem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as Tardes!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3" descr="Photo on 2011-11-29 at 13.54.jpg"/>
          <p:cNvPicPr/>
          <p:nvPr/>
        </p:nvPicPr>
        <p:blipFill>
          <a:blip r:embed="rId5"/>
          <a:stretch/>
        </p:blipFill>
        <p:spPr>
          <a:xfrm>
            <a:off x="914400" y="594360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49" name="TextBox 62"/>
          <p:cNvSpPr/>
          <p:nvPr/>
        </p:nvSpPr>
        <p:spPr>
          <a:xfrm>
            <a:off x="776160" y="556272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bb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Rita Kopczyns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Rita Kopczynsk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Rita Kopczynski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Rita Kopczynski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Rita Kopczynski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6"/>
          <p:cNvSpPr/>
          <p:nvPr/>
        </p:nvSpPr>
        <p:spPr>
          <a:xfrm>
            <a:off x="152280" y="44197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57"/>
          <p:cNvSpPr/>
          <p:nvPr/>
        </p:nvSpPr>
        <p:spPr>
          <a:xfrm>
            <a:off x="152280" y="3581280"/>
            <a:ext cx="1828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Hola! Yo soy Rita. Yo vivo en New York. Tengo catorce años. Yo tengo dos hermanos y una hermana. Estoy feliz y graciosa. Amo mi familia y  mis amigas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510228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5102280"/>
            <a:ext cx="536760" cy="785880"/>
          </a:xfrm>
          <a:prstGeom prst="rect">
            <a:avLst/>
          </a:prstGeom>
          <a:ln w="0">
            <a:noFill/>
          </a:ln>
        </p:spPr>
      </p:pic>
      <p:sp>
        <p:nvSpPr>
          <p:cNvPr id="187" name="TextBox 62"/>
          <p:cNvSpPr/>
          <p:nvPr/>
        </p:nvSpPr>
        <p:spPr>
          <a:xfrm>
            <a:off x="152280" y="556272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go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943600"/>
            <a:ext cx="543240" cy="781200"/>
          </a:xfrm>
          <a:prstGeom prst="rect">
            <a:avLst/>
          </a:prstGeom>
          <a:ln w="0">
            <a:noFill/>
          </a:ln>
        </p:spPr>
      </p:pic>
      <p:sp>
        <p:nvSpPr>
          <p:cNvPr id="189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5181480"/>
            <a:ext cx="439560" cy="628920"/>
          </a:xfrm>
          <a:prstGeom prst="rect">
            <a:avLst/>
          </a:prstGeom>
          <a:ln w="0">
            <a:noFill/>
          </a:ln>
        </p:spPr>
      </p:pic>
      <p:sp>
        <p:nvSpPr>
          <p:cNvPr id="191" name="TextBox 66"/>
          <p:cNvSpPr/>
          <p:nvPr/>
        </p:nvSpPr>
        <p:spPr>
          <a:xfrm flipH="1">
            <a:off x="1447920" y="5486400"/>
            <a:ext cx="1828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e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7"/>
          <p:cNvSpPr/>
          <p:nvPr/>
        </p:nvSpPr>
        <p:spPr>
          <a:xfrm>
            <a:off x="2743200" y="3809880"/>
            <a:ext cx="3429000" cy="3812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lla abre la puerta para Gabby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Noviembre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7"/>
          <p:cNvSpPr/>
          <p:nvPr/>
        </p:nvSpPr>
        <p:spPr>
          <a:xfrm>
            <a:off x="2819520" y="3124080"/>
            <a:ext cx="3657600" cy="3812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Nosotros son allí en 2pm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Gabb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Noviem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¿Cuántos hermanos tú quieres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Noviembre 30, de 2012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Noviem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Noviem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Tú eres Americana.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Noviem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as Noches!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53" descr="Photo on 2011-11-29 at 13.54.jpg"/>
          <p:cNvPicPr/>
          <p:nvPr/>
        </p:nvPicPr>
        <p:blipFill>
          <a:blip r:embed="rId5"/>
          <a:stretch/>
        </p:blipFill>
        <p:spPr>
          <a:xfrm>
            <a:off x="914400" y="594360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200" name="TextBox 62"/>
          <p:cNvSpPr/>
          <p:nvPr/>
        </p:nvSpPr>
        <p:spPr>
          <a:xfrm>
            <a:off x="776160" y="556272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bb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3-01-02T18:32:05Z</dcterms:modified>
  <cp:revision>117</cp:revision>
  <dc:subject/>
  <dc:title>Profile</dc:title>
</cp:coreProperties>
</file>